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DD3-803D-4FCE-B793-A5ED5B74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9E8-1065-417E-9A24-BE3C870A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62A-9E33-46FF-AD7B-03B3E87C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150-D529-46C6-81B7-C1215DC0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D2AD-F6BB-4053-B604-627C9B10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9D62-479D-4EE6-B7BE-0BD25360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EEDA-606B-4F47-8AE1-64647CC8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E7FD-8416-4611-A647-745E2FE0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FBC0-944B-4038-B5C2-F91B95E8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BCDC-0FCF-4B44-93E9-F50445A0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85C5-A2D2-4855-9513-2C977FB5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666-C541-4BD8-A748-A23DD542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CBD1-20C9-4D2C-BAC4-E0B93DF7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630A-8E6E-4A54-AE01-F583C49D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6802-92E4-42A3-99BD-E1E1C3AB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B4DF-A513-46DB-AFDF-CD68D656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8960-C562-4FFC-ADF6-E8521F75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5C7-16AC-4227-AB5E-0671C780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25B-CCEA-4D38-A11E-458483E3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BAB-24FC-4CBB-AA6B-92652BEB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2F8-B373-45B2-BF74-1496966A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AEE-CBD6-4382-B002-255DFB0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FAC-AEE1-4183-8D73-1C4DD630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52B-FEF7-4E15-95D4-6AF38E91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3681-7FE3-43DF-85FB-022B4A5891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0A29-921B-4DE2-A208-5B022CC588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8984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Desobediencia organizada y caída del Estado excluyen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 fines del siglo XIX y en las primeras décadas del XX, quienes padecían la exclusión comenzaron, de distintas maneras, a alterar el orden creado por las oligarquí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“rotos” tenias razones: la exclusión ya no solo significaba dejarlos al margen de una realidad de privilegios, sino perjudicarlos y, a través del monopolio del Estado, darles sanción institucional, en todo el territorio, a las situaciones de miseria y explot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3.</a:t>
            </a: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n la misma medida en que los “rotos”, a través de sus organizaciones y huelgas, cuando no por su simple presencia, comenzaron a hacerse cada vez más visibles y molestos en el orden que las oligarquías habían creado y querían preservar, fueron siendo brutalmente reprimi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La ilusión de la legitim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1885 voto un 3,2 % de la población total; un 3,6 en 1888; un 8,6 en 1912 y un 4,4 en 192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te numero de votantes bastaba a las oligarquías de la época para suponer que su monopolio estatal era legiti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b) Miseria, desobediencia y repres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l Chile del cambio de siglo, la realidad social conocida y aceptada por las oligarquías se modificara significativament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la década del 1920, la masividad de la organización obrera dejo en evidencia no solo que la represión era ya un mecanismo ineficaz, sino que también que la institucionalidad era insuficiente, y sobre todo, que el Estado ya no podía seguir operando sobre una matriz excluy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Clases</cp:lastModifiedBy>
  <dcterms:modified xsi:type="dcterms:W3CDTF">2010-05-31T14:27:23Z</dcterms:modified>
  <cp:revision>35</cp:revision>
  <dc:subject/>
  <dc:title>La compleja herencia del siglo XIX</dc:title>
</cp:coreProperties>
</file>